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039C-19B8-4488-8550-64AC898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CC81-ACC2-4B41-9C9B-560EA1D0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1414-7D4C-45E7-8B39-234867B4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6428-4071-46C1-AB42-E6D4A16D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F1E7-C27F-40BC-8FBE-3BADAF93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703D-D539-47C8-B166-51E11505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86C9-2E56-4E09-80BD-860A7DBC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B663-F75B-4905-BBD6-D49EDFF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0B62-A0B1-4C09-B393-FCF1424D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7DA8-58EE-4464-8A24-86CFAD96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6188-6093-4494-99F7-48805DA9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D204-2D5F-4E44-B181-80B9B03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4EB2-4F90-47DB-8967-C260F1CC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13BB-D1A3-44F2-9526-38DAC8D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3EA-06F9-4453-9C26-AE86949A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99F3-EB15-4CCE-8788-98659903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960-2009-4085-8B50-6F9AED73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1E7E-A31D-4677-9618-17304BC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8280-FC3A-4870-9476-6FEAA56B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72BC-9C53-418F-987B-39286F6D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30FF-21CA-45BF-8823-C32EC2B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02F4-E646-43AB-9BF8-5A386D6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1BF9-FCF4-4BA5-AF8B-08F7058C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9D26-C3CC-4B24-8200-CA89587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05C5-0228-428C-B0D0-4E94CB15F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DB12-578D-46DF-AE86-BF7C79CEC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ynamic Voltage Scaling Using Both Headers and Foot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yle Craig and Roy Matth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E 6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Body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Study of DVS with Headers and Fo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for using both headers and footers for leakage control (similar to MTCM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VS system trades area for power savings and designing for headers and footers created additional complex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uch a system would allow for more knobs, to give designers more options when weighing power, delay, and area consid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search has addressed the power savings method known as Dynamic Voltage Scaling (DVS) to a system and attempt to apply the use of both headers and footers 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sign is a crucial area of VLSI research and quadratic power savings can be achieved by voltage reduction, using the following formul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y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aC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S allows us to take advantage of this power sav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erformed simulations using a DVS system of headers and footers on a 32-bit Kogge-Stone Adder using the 65nm TT P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ge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371600"/>
          <a:ext cx="5105520" cy="42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1055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between power and delay is shown above.  Tradeoffs must be considered when implementing a DV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278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735360"/>
            <a:ext cx="4648320" cy="3122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029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952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1206360"/>
            <a:ext cx="396216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power gates to a system will cause an increase in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nd footers must be sized appropriately to achieve an established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e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 50% decrease in header width, a 1.1% delay increase and 40% power re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S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50% decrease in footer width yields a 1.5% increase in delay and 13% reduction in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800600" cy="28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3757680"/>
            <a:ext cx="480060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6272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86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438280"/>
            <a:ext cx="396216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header sizing f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at larger headers are required to achieve a similar delay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fore, if we us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duce width by 50%, the delay increases by 2.1% and the power decreases by 4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038480"/>
            <a:ext cx="8229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malized delay can be seen here against total power for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ime and width combination meeting our delay constraint of 10% is highligh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case without headers showed a power of 2.71mW, so every case here saves som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otal power is calculated here as the sum of the rail recovery power and the power for the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295280"/>
          <a:ext cx="8229600" cy="2579760"/>
        </p:xfrm>
        <a:graphic>
          <a:graphicData uri="http://schemas.openxmlformats.org/drawingml/2006/table">
            <a:tbl>
              <a:tblPr/>
              <a:tblGrid>
                <a:gridCol w="1463760"/>
                <a:gridCol w="950760"/>
                <a:gridCol w="951120"/>
                <a:gridCol w="1001520"/>
                <a:gridCol w="1295280"/>
                <a:gridCol w="843120"/>
                <a:gridCol w="838080"/>
                <a:gridCol w="88596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Total Power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13372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rail recovery can be seen here as compared to header rai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s require a much smaller area to achieve the same delay penalty, which can be leveraged when designing DVS circuits, though power savings is less than for the header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3657600"/>
          <a:ext cx="8458200" cy="2187720"/>
        </p:xfrm>
        <a:graphic>
          <a:graphicData uri="http://schemas.openxmlformats.org/drawingml/2006/table">
            <a:tbl>
              <a:tblPr/>
              <a:tblGrid>
                <a:gridCol w="1506600"/>
                <a:gridCol w="976320"/>
                <a:gridCol w="978120"/>
                <a:gridCol w="1029960"/>
                <a:gridCol w="1327320"/>
                <a:gridCol w="865080"/>
                <a:gridCol w="863640"/>
                <a:gridCol w="911160"/>
              </a:tblGrid>
              <a:tr h="3128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Energy 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3429000"/>
          <a:ext cx="4647240" cy="3001320"/>
        </p:xfrm>
        <a:graphic>
          <a:graphicData uri="http://schemas.openxmlformats.org/drawingml/2006/table">
            <a:tbl>
              <a:tblPr/>
              <a:tblGrid>
                <a:gridCol w="1274400"/>
                <a:gridCol w="1699560"/>
                <a:gridCol w="1673280"/>
              </a:tblGrid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y (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04920" y="1447920"/>
            <a:ext cx="38098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energy overhead is very large in this case of an idle Kogge-Stone ad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ust be taken into account when switching from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ing as a Kn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52680" y="1332000"/>
          <a:ext cx="5791320" cy="27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3200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352680" y="4084560"/>
          <a:ext cx="5791320" cy="277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08456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486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724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86000"/>
            <a:ext cx="3048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the power consumption of a system only using headers versus only using footers shows some interesting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ifferent slopes can be leveraged as separate knobs to achieve greater control over power and wi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4:30Z</dcterms:created>
  <dc:creator>Roy IV</dc:creator>
  <dc:description/>
  <dc:language>en-US</dc:language>
  <cp:lastModifiedBy>Roy Matthews</cp:lastModifiedBy>
  <dcterms:modified xsi:type="dcterms:W3CDTF">2008-12-02T17:53:4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